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F4D0-1FA9-4471-8FB8-AB81E5A05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0EA3-DDC1-4CDE-86EA-5D1B3160E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upload.wikimedia.org/wikipedia/commons/1/12/Singapore_Botanic_Gardens_Cactus_Garden_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CA01-28EE-4D2D-97BB-5C186A292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D989-C865-428D-AF86-4DE570417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0/07/the-calvin-cycle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0E02-1C2D-4AC1-97AE-CE84D5942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0/07/the-calvin-cycle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4970-64E1-4109-9AB8-AF3250C46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BCED-72AD-4E36-BC78-3545788B3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0/07/the-calvin-cycle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14E3-53EB-4E17-B178-84BBE4E20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ikidoc.org/index.php/Thylak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9D00-E6AE-4CBE-819B-694DEB80D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87BA-17CB-4AA9-8217-CC7C2EC2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29AB-3B4A-4AEA-A314-773139DD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D2AC-D234-4AED-A66C-527D0AA2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6951-CCC2-4B70-B752-C6D571F30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66F0-CB25-4314-B29F-67DCB161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8B54-55FB-4D7A-BE7C-7CC24122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2037-A835-4632-BB43-F6B6CCDE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75B1-01F8-4ED7-9848-30E05594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BEEA-4B02-4680-85A0-E1828419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04FD-259F-409D-9882-39B1E3C3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1A29-4E7F-4203-B089-250BC0ED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E079-6080-4B78-9151-4F447257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DF95-4604-4291-8D12-CEA3C4D1E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58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thways of Photosynthesi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ght-In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vi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in the str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 enzyme-catalyzed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rbon fix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reduction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RuBP re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c10x17calvin-cycle"/>
          <p:cNvPicPr/>
          <p:nvPr/>
        </p:nvPicPr>
        <p:blipFill>
          <a:blip r:embed="rId1"/>
          <a:stretch/>
        </p:blipFill>
        <p:spPr>
          <a:xfrm>
            <a:off x="1757520" y="609480"/>
            <a:ext cx="5627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vi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3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lecules that enter the Calvin cycle, 1 G3P molecule is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G3P molecules are used to regenerate Ru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c10x17calvin-cycle"/>
          <p:cNvPicPr/>
          <p:nvPr/>
        </p:nvPicPr>
        <p:blipFill>
          <a:blip r:embed="rId1"/>
          <a:stretch/>
        </p:blipFill>
        <p:spPr>
          <a:xfrm>
            <a:off x="4648320" y="2181240"/>
            <a:ext cx="38098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step-by-step of Calvin cyc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cience.smith.edu/departments/Biology/Bio231/calvin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Graw-Hill Ryerson self-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1 G3P molecule that comes out of the Calvin cycle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9 AT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6 NAD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c10x17calvin-cycle"/>
          <p:cNvPicPr/>
          <p:nvPr/>
        </p:nvPicPr>
        <p:blipFill>
          <a:blip r:embed="rId1"/>
          <a:stretch/>
        </p:blipFill>
        <p:spPr>
          <a:xfrm>
            <a:off x="4648320" y="2181240"/>
            <a:ext cx="38098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Reactions 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Thylakoid_membrane"/>
          <p:cNvPicPr/>
          <p:nvPr/>
        </p:nvPicPr>
        <p:blipFill>
          <a:blip r:embed="rId1"/>
          <a:stretch/>
        </p:blipFill>
        <p:spPr>
          <a:xfrm>
            <a:off x="963720" y="1981080"/>
            <a:ext cx="7216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get that Photosynthesis song out of your head and fill it with a photosynthesis rap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youtube.com/watch?v=pE82qtKSSH4&amp;feature=end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22:11:05Z</dcterms:created>
  <dc:creator>rubina khan</dc:creator>
  <dc:description/>
  <dc:language>en-US</dc:language>
  <cp:lastModifiedBy>rubina khan</cp:lastModifiedBy>
  <dcterms:modified xsi:type="dcterms:W3CDTF">2015-10-23T19:31:24Z</dcterms:modified>
  <cp:revision>35</cp:revision>
  <dc:subject/>
  <dc:title>PowerPoint Presentation</dc:title>
</cp:coreProperties>
</file>